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Интегрисане академске студије фармације</a:t>
            </a:r>
            <a:endParaRPr b="0" lang="en-US" sz="36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редмет: Енглески јези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редавач: Душица Лази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Your Pharmacist Fills Your Prescription Order</a:t>
            </a:r>
            <a:endParaRPr b="0" lang="en-US" sz="32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7.30 at night, you’ve had to leave work early to go to the doctor’ office or emergency room, where you’ve had to wait for 3 hours before getting to see a doctor. And now you enter the pharmacy to get a prescription order filled. As you hand your prescription order off to the pharmacy staff, you begin to wonder just how long it is going to take before you can get home to the family. Some 20 minutes later, you walk out the door, prescription in hand, now confident that you’ll be feeling better in just a few days……The rest of the lesson can be found in the textbook “English Language in Pharmacy Practice” by Leontina Kernic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to remember:</a:t>
            </a:r>
            <a:endParaRPr b="0" lang="en-US" sz="28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criptio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ew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l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tion stic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lus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aq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to remember:</a:t>
            </a:r>
            <a:endParaRPr b="0" lang="en-US" sz="28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rigino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ffe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eagino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ecta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c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stiba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ip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ss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hydrou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ing Points:</a:t>
            </a:r>
            <a:endParaRPr b="0" lang="en-US" sz="28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ing the written prescriptio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rding against drug intera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ing dosage and duration therap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ing against allerg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seling the patient about his medic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unding topical dosage for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 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g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words opposite in meaning to the following words by adding certain prefixes:</a:t>
            </a:r>
            <a:endParaRPr b="0" lang="en-US" sz="28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asti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es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adjectives from the following nouns:</a:t>
            </a:r>
            <a:endParaRPr b="0" lang="en-US" sz="28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e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b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ra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lus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cos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following sentences:</a:t>
            </a:r>
            <a:endParaRPr b="0" lang="en-US" sz="28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atient began vomiting, 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consult your pharmacist for sure if yo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cedure will not be easy unless the pharma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se drugs were not approved, yo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he had taken her pills regularly, s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ould have got that information here if the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e into English:</a:t>
            </a:r>
            <a:endParaRPr b="0" lang="en-US" sz="28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евести краћи текст о лековитим својствима жалфије који се налази на 381. страни уџбеника </a:t>
            </a:r>
            <a:r>
              <a:rPr b="0" lang="en-US" sz="2400" spc="-1" strike="noStrike">
                <a:solidFill>
                  <a:srgbClr val="000000"/>
                </a:solidFill>
                <a:latin typeface="Arial"/>
              </a:rPr>
              <a:t>“English Language in Pharmacy Practice”, </a:t>
            </a:r>
            <a:r>
              <a:rPr b="0" lang="sr-CS" sz="2400" spc="-1" strike="noStrike">
                <a:solidFill>
                  <a:srgbClr val="000000"/>
                </a:solidFill>
                <a:latin typeface="Arial"/>
              </a:rPr>
              <a:t>аутора мр. Леонтине Керничан.</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3-15T09:30:39Z</dcterms:modified>
  <cp:revision>20</cp:revision>
  <dc:subject/>
  <dc:title>Slide 1</dc:title>
</cp:coreProperties>
</file>